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0E1-3E80-4295-8750-95D01458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D4D2-B386-4220-9620-5D6AD3CF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5DBD-977F-4DAF-B66B-AE2824CC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A39B-6B9A-4FB9-A49B-25224D81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BFCF-F2AC-444A-A929-D357112B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6B33-2D08-46D2-92FF-B5D9B51C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640C-3A7B-41FC-A695-078F1089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A2C-600C-43B4-A423-2C78C035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C31A-75F4-4B5A-AC63-317C213B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A155-A987-4DC9-A6D3-D0AC9A92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71AB-31D9-4FE5-8E30-281440DE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3E19-FE3B-48C3-9760-04948778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A7D8-7423-4D8B-9956-194E30F1C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GMOD Web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une 6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en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gmod_cog" descr=""/>
          <p:cNvPicPr/>
          <p:nvPr/>
        </p:nvPicPr>
        <p:blipFill>
          <a:blip r:embed="rId1"/>
          <a:stretch/>
        </p:blipFill>
        <p:spPr>
          <a:xfrm>
            <a:off x="609480" y="5791320"/>
            <a:ext cx="1219320" cy="896760"/>
          </a:xfrm>
          <a:prstGeom prst="rect">
            <a:avLst/>
          </a:prstGeom>
          <a:ln w="0">
            <a:noFill/>
          </a:ln>
        </p:spPr>
      </p:pic>
      <p:pic>
        <p:nvPicPr>
          <p:cNvPr id="44" name="ucla_logo" descr=""/>
          <p:cNvPicPr/>
          <p:nvPr/>
        </p:nvPicPr>
        <p:blipFill>
          <a:blip r:embed="rId2"/>
          <a:stretch/>
        </p:blipFill>
        <p:spPr>
          <a:xfrm>
            <a:off x="5943600" y="5808600"/>
            <a:ext cx="236232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905120" y="1523880"/>
            <a:ext cx="5105160" cy="4800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ustomization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581280"/>
            <a:ext cx="914400" cy="12146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4419720"/>
            <a:ext cx="914400" cy="121896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1981080"/>
            <a:ext cx="914400" cy="12193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4800600"/>
            <a:ext cx="914400" cy="6094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99" idx="3"/>
            <a:endCxn id="100" idx="1"/>
          </p:cNvCxnSpPr>
          <p:nvPr/>
        </p:nvCxnSpPr>
        <p:spPr>
          <a:xfrm flipH="1" rot="16200000">
            <a:off x="1596960" y="4569480"/>
            <a:ext cx="234000" cy="686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100" idx="3"/>
            <a:endCxn id="102" idx="2"/>
          </p:cNvCxnSpPr>
          <p:nvPr/>
        </p:nvCxnSpPr>
        <p:spPr>
          <a:xfrm>
            <a:off x="2971800" y="5029200"/>
            <a:ext cx="2743920" cy="381600"/>
          </a:xfrm>
          <a:prstGeom prst="curvedConnector5">
            <a:avLst>
              <a:gd name="adj1" fmla="val 41661"/>
              <a:gd name="adj2" fmla="val 79981"/>
              <a:gd name="adj3" fmla="val 416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7086600" y="4495680"/>
            <a:ext cx="914400" cy="1219320"/>
          </a:xfrm>
          <a:prstGeom prst="foldedCorner">
            <a:avLst>
              <a:gd name="adj" fmla="val 125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2" idx="3"/>
            <a:endCxn id="105" idx="1"/>
          </p:cNvCxnSpPr>
          <p:nvPr/>
        </p:nvCxnSpPr>
        <p:spPr>
          <a:xfrm>
            <a:off x="6172200" y="5105160"/>
            <a:ext cx="9151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019920" y="1981080"/>
            <a:ext cx="914400" cy="12193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3657600"/>
            <a:ext cx="914400" cy="6094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1" idx="2"/>
            <a:endCxn id="108" idx="1"/>
          </p:cNvCxnSpPr>
          <p:nvPr/>
        </p:nvCxnSpPr>
        <p:spPr>
          <a:xfrm flipH="1" rot="16200000">
            <a:off x="4723200" y="3428640"/>
            <a:ext cx="76284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7" idx="2"/>
            <a:endCxn id="108" idx="3"/>
          </p:cNvCxnSpPr>
          <p:nvPr/>
        </p:nvCxnSpPr>
        <p:spPr>
          <a:xfrm rot="5400000">
            <a:off x="5942880" y="3428640"/>
            <a:ext cx="76284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2"/>
            <a:endCxn id="102" idx="0"/>
          </p:cNvCxnSpPr>
          <p:nvPr/>
        </p:nvCxnSpPr>
        <p:spPr>
          <a:xfrm flipV="1" rot="10800000">
            <a:off x="5714280" y="4266720"/>
            <a:ext cx="108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2057400" y="2743200"/>
            <a:ext cx="914400" cy="12193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2" idx="1"/>
            <a:endCxn id="99" idx="1"/>
          </p:cNvCxnSpPr>
          <p:nvPr/>
        </p:nvCxnSpPr>
        <p:spPr>
          <a:xfrm flipV="1" rot="10800000">
            <a:off x="1370880" y="3351600"/>
            <a:ext cx="686520" cy="229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3276720" y="3048120"/>
            <a:ext cx="914400" cy="6094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4" idx="1"/>
            <a:endCxn id="112" idx="3"/>
          </p:cNvCxnSpPr>
          <p:nvPr/>
        </p:nvCxnSpPr>
        <p:spPr>
          <a:xfrm rot="10800000">
            <a:off x="2971080" y="3351960"/>
            <a:ext cx="3056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2" idx="1"/>
            <a:endCxn id="114" idx="2"/>
          </p:cNvCxnSpPr>
          <p:nvPr/>
        </p:nvCxnSpPr>
        <p:spPr>
          <a:xfrm rot="10800000">
            <a:off x="3733200" y="3656880"/>
            <a:ext cx="1524600" cy="1448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1" idx="1"/>
            <a:endCxn id="114" idx="0"/>
          </p:cNvCxnSpPr>
          <p:nvPr/>
        </p:nvCxnSpPr>
        <p:spPr>
          <a:xfrm flipV="1" rot="10800000">
            <a:off x="3733200" y="2590560"/>
            <a:ext cx="762480" cy="457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cap of Data Ren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365760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1905120"/>
            <a:ext cx="914400" cy="609480"/>
          </a:xfrm>
          <a:prstGeom prst="flowChartMagneticDisk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4419720"/>
            <a:ext cx="4572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4800600"/>
            <a:ext cx="4572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640" y="43434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ok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600" y="47242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0" idx="3"/>
            <a:endCxn id="126" idx="0"/>
          </p:cNvCxnSpPr>
          <p:nvPr/>
        </p:nvCxnSpPr>
        <p:spPr>
          <a:xfrm flipV="1" rot="10800000">
            <a:off x="5562000" y="2514240"/>
            <a:ext cx="108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2" idx="6"/>
            <a:endCxn id="126" idx="1"/>
          </p:cNvCxnSpPr>
          <p:nvPr/>
        </p:nvCxnSpPr>
        <p:spPr>
          <a:xfrm flipV="1">
            <a:off x="1447920" y="3809520"/>
            <a:ext cx="3658320" cy="1067760"/>
          </a:xfrm>
          <a:prstGeom prst="curvedConnector5">
            <a:avLst>
              <a:gd name="adj1" fmla="val 49995"/>
              <a:gd name="adj2" fmla="val 49983"/>
              <a:gd name="adj3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362320" y="3352680"/>
            <a:ext cx="91440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1" idx="6"/>
            <a:endCxn id="128" idx="1"/>
          </p:cNvCxnSpPr>
          <p:nvPr/>
        </p:nvCxnSpPr>
        <p:spPr>
          <a:xfrm flipV="1">
            <a:off x="1447920" y="3809160"/>
            <a:ext cx="915120" cy="68652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0" idx="2"/>
            <a:endCxn id="128" idx="0"/>
          </p:cNvCxnSpPr>
          <p:nvPr/>
        </p:nvCxnSpPr>
        <p:spPr>
          <a:xfrm flipV="1" rot="10800000">
            <a:off x="2818800" y="2208600"/>
            <a:ext cx="228672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7238880" y="3352680"/>
            <a:ext cx="91440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0" idx="4"/>
            <a:endCxn id="131" idx="0"/>
          </p:cNvCxnSpPr>
          <p:nvPr/>
        </p:nvCxnSpPr>
        <p:spPr>
          <a:xfrm>
            <a:off x="6019920" y="2209320"/>
            <a:ext cx="167688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2" idx="6"/>
            <a:endCxn id="131" idx="1"/>
          </p:cNvCxnSpPr>
          <p:nvPr/>
        </p:nvCxnSpPr>
        <p:spPr>
          <a:xfrm flipV="1">
            <a:off x="1447920" y="3809520"/>
            <a:ext cx="5791680" cy="1067760"/>
          </a:xfrm>
          <a:prstGeom prst="curvedConnector5">
            <a:avLst>
              <a:gd name="adj1" fmla="val 49996"/>
              <a:gd name="adj2" fmla="val 49983"/>
              <a:gd name="adj3" fmla="val 499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5105520" y="3352680"/>
            <a:ext cx="914400" cy="91440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5105520"/>
            <a:ext cx="914400" cy="9144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28" idx="2"/>
            <a:endCxn id="134" idx="1"/>
          </p:cNvCxnSpPr>
          <p:nvPr/>
        </p:nvCxnSpPr>
        <p:spPr>
          <a:xfrm flipH="1" rot="16200000">
            <a:off x="3314520" y="3771360"/>
            <a:ext cx="1296360" cy="2286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6" idx="2"/>
            <a:endCxn id="134" idx="0"/>
          </p:cNvCxnSpPr>
          <p:nvPr/>
        </p:nvCxnSpPr>
        <p:spPr>
          <a:xfrm flipV="1" rot="10800000">
            <a:off x="5562000" y="4266720"/>
            <a:ext cx="10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1" idx="2"/>
            <a:endCxn id="134" idx="3"/>
          </p:cNvCxnSpPr>
          <p:nvPr/>
        </p:nvCxnSpPr>
        <p:spPr>
          <a:xfrm rot="5400000">
            <a:off x="6209640" y="4076640"/>
            <a:ext cx="1296360" cy="1676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ite Link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gmod_www_sitemap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40080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2057400" y="1295280"/>
            <a:ext cx="2438280" cy="3581640"/>
            <a:chOff x="2057400" y="1295280"/>
            <a:chExt cx="2438280" cy="3581640"/>
          </a:xfrm>
        </p:grpSpPr>
        <p:sp>
          <p:nvSpPr>
            <p:cNvPr id="141" name=""/>
            <p:cNvSpPr/>
            <p:nvPr/>
          </p:nvSpPr>
          <p:spPr>
            <a:xfrm>
              <a:off x="3352680" y="2514600"/>
              <a:ext cx="1143000" cy="1143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57400" y="3733920"/>
              <a:ext cx="1143000" cy="1143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57400" y="1295280"/>
              <a:ext cx="1143000" cy="1143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133720" y="2590920"/>
            <a:ext cx="990360" cy="990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ajor and Minor Fo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gmod_wooly_screenshot" descr=""/>
          <p:cNvPicPr/>
          <p:nvPr/>
        </p:nvPicPr>
        <p:blipFill>
          <a:blip r:embed="rId1"/>
          <a:stretch/>
        </p:blipFill>
        <p:spPr>
          <a:xfrm>
            <a:off x="1828800" y="1557360"/>
            <a:ext cx="5486400" cy="509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514600" y="1676520"/>
            <a:ext cx="4267080" cy="457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676520" y="1752480"/>
            <a:ext cx="5867280" cy="1143000"/>
            <a:chOff x="1676520" y="1752480"/>
            <a:chExt cx="5867280" cy="1143000"/>
          </a:xfrm>
        </p:grpSpPr>
        <p:sp>
          <p:nvSpPr>
            <p:cNvPr id="149" name=""/>
            <p:cNvSpPr/>
            <p:nvPr/>
          </p:nvSpPr>
          <p:spPr>
            <a:xfrm>
              <a:off x="6400800" y="1752480"/>
              <a:ext cx="1143000" cy="1143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76520" y="2438280"/>
              <a:ext cx="114300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76520" y="1905120"/>
              <a:ext cx="1143000" cy="5331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ser Sessions and P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924680" y="350532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bx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001000" y="510552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7"/>
            <a:endCxn id="153" idx="4"/>
          </p:cNvCxnSpPr>
          <p:nvPr/>
        </p:nvCxnSpPr>
        <p:spPr>
          <a:xfrm flipH="1" flipV="1">
            <a:off x="8381520" y="4419000"/>
            <a:ext cx="401040" cy="819720"/>
          </a:xfrm>
          <a:prstGeom prst="straightConnector1">
            <a:avLst/>
          </a:prstGeom>
          <a:ln w="3168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7162920" y="266688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6" idx="5"/>
            <a:endCxn id="153" idx="1"/>
          </p:cNvCxnSpPr>
          <p:nvPr/>
        </p:nvCxnSpPr>
        <p:spPr>
          <a:xfrm>
            <a:off x="7943760" y="3447720"/>
            <a:ext cx="115200" cy="191160"/>
          </a:xfrm>
          <a:prstGeom prst="straightConnector1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7162920" y="449568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7"/>
            <a:endCxn id="153" idx="3"/>
          </p:cNvCxnSpPr>
          <p:nvPr/>
        </p:nvCxnSpPr>
        <p:spPr>
          <a:xfrm flipV="1">
            <a:off x="7943760" y="4285440"/>
            <a:ext cx="115200" cy="343800"/>
          </a:xfrm>
          <a:prstGeom prst="straightConnector1">
            <a:avLst/>
          </a:prstGeom>
          <a:ln w="3168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5638680" y="426708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60" idx="6"/>
            <a:endCxn id="154" idx="2"/>
          </p:cNvCxnSpPr>
          <p:nvPr/>
        </p:nvCxnSpPr>
        <p:spPr>
          <a:xfrm>
            <a:off x="6553080" y="4723920"/>
            <a:ext cx="1448640" cy="83916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8" idx="5"/>
            <a:endCxn id="154" idx="0"/>
          </p:cNvCxnSpPr>
          <p:nvPr/>
        </p:nvCxnSpPr>
        <p:spPr>
          <a:xfrm flipV="1">
            <a:off x="7943400" y="5105160"/>
            <a:ext cx="515160" cy="172080"/>
          </a:xfrm>
          <a:prstGeom prst="straightConnector1">
            <a:avLst/>
          </a:prstGeom>
          <a:ln w="3168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60" idx="6"/>
            <a:endCxn id="158" idx="1"/>
          </p:cNvCxnSpPr>
          <p:nvPr/>
        </p:nvCxnSpPr>
        <p:spPr>
          <a:xfrm flipV="1">
            <a:off x="6553080" y="4628880"/>
            <a:ext cx="743760" cy="9576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0" idx="6"/>
            <a:endCxn id="153" idx="2"/>
          </p:cNvCxnSpPr>
          <p:nvPr/>
        </p:nvCxnSpPr>
        <p:spPr>
          <a:xfrm flipV="1">
            <a:off x="6553080" y="3962160"/>
            <a:ext cx="1372320" cy="76248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60" idx="0"/>
            <a:endCxn id="156" idx="1"/>
          </p:cNvCxnSpPr>
          <p:nvPr/>
        </p:nvCxnSpPr>
        <p:spPr>
          <a:xfrm flipV="1">
            <a:off x="6095880" y="2800080"/>
            <a:ext cx="1200960" cy="146736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4648320" y="510552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6" idx="4"/>
            <a:endCxn id="154" idx="4"/>
          </p:cNvCxnSpPr>
          <p:nvPr/>
        </p:nvCxnSpPr>
        <p:spPr>
          <a:xfrm>
            <a:off x="5105160" y="6019560"/>
            <a:ext cx="3353400" cy="1080"/>
          </a:xfrm>
          <a:prstGeom prst="straightConnector1">
            <a:avLst/>
          </a:prstGeom>
          <a:ln w="31680">
            <a:solidFill>
              <a:srgbClr val="00ccff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6" idx="0"/>
            <a:endCxn id="160" idx="3"/>
          </p:cNvCxnSpPr>
          <p:nvPr/>
        </p:nvCxnSpPr>
        <p:spPr>
          <a:xfrm flipV="1">
            <a:off x="5105520" y="5047560"/>
            <a:ext cx="667440" cy="57960"/>
          </a:xfrm>
          <a:prstGeom prst="straightConnector1">
            <a:avLst/>
          </a:prstGeom>
          <a:ln w="3168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553080" y="548640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9" idx="5"/>
            <a:endCxn id="154" idx="1"/>
          </p:cNvCxnSpPr>
          <p:nvPr/>
        </p:nvCxnSpPr>
        <p:spPr>
          <a:xfrm flipV="1">
            <a:off x="7334280" y="5238360"/>
            <a:ext cx="800640" cy="1029600"/>
          </a:xfrm>
          <a:prstGeom prst="straightConnector1">
            <a:avLst/>
          </a:prstGeom>
          <a:ln w="31680">
            <a:solidFill>
              <a:srgbClr val="cc99ff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9" idx="7"/>
            <a:endCxn id="158" idx="3"/>
          </p:cNvCxnSpPr>
          <p:nvPr/>
        </p:nvCxnSpPr>
        <p:spPr>
          <a:xfrm flipH="1" flipV="1">
            <a:off x="7295760" y="5276520"/>
            <a:ext cx="38880" cy="343440"/>
          </a:xfrm>
          <a:prstGeom prst="straightConnector1">
            <a:avLst/>
          </a:prstGeom>
          <a:ln w="31680">
            <a:solidFill>
              <a:srgbClr val="cc99ff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9" idx="2"/>
            <a:endCxn id="160" idx="5"/>
          </p:cNvCxnSpPr>
          <p:nvPr/>
        </p:nvCxnSpPr>
        <p:spPr>
          <a:xfrm flipH="1" flipV="1">
            <a:off x="6419880" y="5047560"/>
            <a:ext cx="133560" cy="896040"/>
          </a:xfrm>
          <a:prstGeom prst="straightConnector1">
            <a:avLst/>
          </a:prstGeom>
          <a:ln w="31680">
            <a:solidFill>
              <a:srgbClr val="cc99ff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5486400" y="563868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3" idx="5"/>
            <a:endCxn id="154" idx="3"/>
          </p:cNvCxnSpPr>
          <p:nvPr/>
        </p:nvCxnSpPr>
        <p:spPr>
          <a:xfrm flipV="1">
            <a:off x="6267240" y="5886000"/>
            <a:ext cx="1867320" cy="53424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0" idx="4"/>
          </p:cNvCxnSpPr>
          <p:nvPr/>
        </p:nvCxnSpPr>
        <p:spPr>
          <a:xfrm flipV="1">
            <a:off x="5619240" y="5181120"/>
            <a:ext cx="477000" cy="59112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3" idx="0"/>
            <a:endCxn id="158" idx="2"/>
          </p:cNvCxnSpPr>
          <p:nvPr/>
        </p:nvCxnSpPr>
        <p:spPr>
          <a:xfrm flipV="1">
            <a:off x="5943240" y="4952160"/>
            <a:ext cx="1220040" cy="68652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6477120" y="342900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7" idx="4"/>
            <a:endCxn id="158" idx="0"/>
          </p:cNvCxnSpPr>
          <p:nvPr/>
        </p:nvCxnSpPr>
        <p:spPr>
          <a:xfrm>
            <a:off x="6933960" y="4343040"/>
            <a:ext cx="686520" cy="153000"/>
          </a:xfrm>
          <a:prstGeom prst="straightConnector1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7" idx="2"/>
            <a:endCxn id="160" idx="7"/>
          </p:cNvCxnSpPr>
          <p:nvPr/>
        </p:nvCxnSpPr>
        <p:spPr>
          <a:xfrm flipH="1">
            <a:off x="6419160" y="3885840"/>
            <a:ext cx="57960" cy="515160"/>
          </a:xfrm>
          <a:prstGeom prst="straightConnector1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1828800" y="251460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35053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80" idx="5"/>
          </p:cNvCxnSpPr>
          <p:nvPr/>
        </p:nvCxnSpPr>
        <p:spPr>
          <a:xfrm>
            <a:off x="2609640" y="3295800"/>
            <a:ext cx="2724840" cy="5144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80" idx="5"/>
          </p:cNvCxnSpPr>
          <p:nvPr/>
        </p:nvCxnSpPr>
        <p:spPr>
          <a:xfrm>
            <a:off x="2609640" y="3295440"/>
            <a:ext cx="2648520" cy="8197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0" idx="5"/>
          </p:cNvCxnSpPr>
          <p:nvPr/>
        </p:nvCxnSpPr>
        <p:spPr>
          <a:xfrm>
            <a:off x="2610000" y="3295800"/>
            <a:ext cx="2419560" cy="11246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5645520" y="2317680"/>
            <a:ext cx="110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2200" y="2666880"/>
            <a:ext cx="126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nte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do table nam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ww” prefix on gmod-web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gression: Chado module linktable naming hierarc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T/POST parameter nam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ww.” prefix on gmod-web pa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ite Link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gmod_www_sitemap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ndering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Data type : 1 Dat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other types w/o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ndering Plu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rt data of type A into data of type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ta tables map 1-to-1 to Class::DBI data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nk tables represented by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_a(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_many(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functions of data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114800" y="3124080"/>
            <a:ext cx="1295280" cy="4572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3124080"/>
            <a:ext cx="198108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ata Ren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ursive generation of 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-pass traversal of a tree of Container and Plugin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809880"/>
            <a:ext cx="2590920" cy="2743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2438280" cy="30492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6172200"/>
            <a:ext cx="2438280" cy="30492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4267080"/>
            <a:ext cx="2438280" cy="1828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4419720"/>
            <a:ext cx="380880" cy="152388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4419720"/>
            <a:ext cx="1752840" cy="152388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3809880"/>
            <a:ext cx="4572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472428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472428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472428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63868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563868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1" idx="2"/>
            <a:endCxn id="64" idx="0"/>
          </p:cNvCxnSpPr>
          <p:nvPr/>
        </p:nvCxnSpPr>
        <p:spPr>
          <a:xfrm>
            <a:off x="5866920" y="42670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1" idx="2"/>
            <a:endCxn id="63" idx="0"/>
          </p:cNvCxnSpPr>
          <p:nvPr/>
        </p:nvCxnSpPr>
        <p:spPr>
          <a:xfrm flipH="1">
            <a:off x="4952520" y="426708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1" idx="2"/>
            <a:endCxn id="62" idx="0"/>
          </p:cNvCxnSpPr>
          <p:nvPr/>
        </p:nvCxnSpPr>
        <p:spPr>
          <a:xfrm>
            <a:off x="5867280" y="426708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4" idx="2"/>
            <a:endCxn id="65" idx="0"/>
          </p:cNvCxnSpPr>
          <p:nvPr/>
        </p:nvCxnSpPr>
        <p:spPr>
          <a:xfrm flipH="1">
            <a:off x="5409720" y="518148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4" idx="2"/>
            <a:endCxn id="66" idx="0"/>
          </p:cNvCxnSpPr>
          <p:nvPr/>
        </p:nvCxnSpPr>
        <p:spPr>
          <a:xfrm>
            <a:off x="5867280" y="518148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ntextual Data Ren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earance of “A” depends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ee context (1 vs.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type being rend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 p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2133720"/>
            <a:ext cx="4572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30481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30481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39625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4" idx="2"/>
            <a:endCxn id="77" idx="0"/>
          </p:cNvCxnSpPr>
          <p:nvPr/>
        </p:nvCxnSpPr>
        <p:spPr>
          <a:xfrm>
            <a:off x="6629040" y="25909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74" idx="2"/>
            <a:endCxn id="76" idx="0"/>
          </p:cNvCxnSpPr>
          <p:nvPr/>
        </p:nvCxnSpPr>
        <p:spPr>
          <a:xfrm flipH="1">
            <a:off x="5714640" y="25909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4" idx="2"/>
            <a:endCxn id="75" idx="0"/>
          </p:cNvCxnSpPr>
          <p:nvPr/>
        </p:nvCxnSpPr>
        <p:spPr>
          <a:xfrm>
            <a:off x="6629400" y="25909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5029200" y="48769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48769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48769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3962520"/>
            <a:ext cx="609840" cy="457200"/>
          </a:xfrm>
          <a:prstGeom prst="parallelogram">
            <a:avLst>
              <a:gd name="adj" fmla="val 33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4"/>
            <a:endCxn id="84" idx="0"/>
          </p:cNvCxnSpPr>
          <p:nvPr/>
        </p:nvCxnSpPr>
        <p:spPr>
          <a:xfrm>
            <a:off x="6171840" y="44197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4"/>
            <a:endCxn id="82" idx="0"/>
          </p:cNvCxnSpPr>
          <p:nvPr/>
        </p:nvCxnSpPr>
        <p:spPr>
          <a:xfrm flipH="1">
            <a:off x="5257440" y="44197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5" idx="4"/>
            <a:endCxn id="83" idx="0"/>
          </p:cNvCxnSpPr>
          <p:nvPr/>
        </p:nvCxnSpPr>
        <p:spPr>
          <a:xfrm>
            <a:off x="6172200" y="44197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7" idx="2"/>
            <a:endCxn id="85" idx="1"/>
          </p:cNvCxnSpPr>
          <p:nvPr/>
        </p:nvCxnSpPr>
        <p:spPr>
          <a:xfrm flipH="1">
            <a:off x="6171840" y="35053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7" idx="2"/>
            <a:endCxn id="78" idx="0"/>
          </p:cNvCxnSpPr>
          <p:nvPr/>
        </p:nvCxnSpPr>
        <p:spPr>
          <a:xfrm>
            <a:off x="6629400" y="35053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ndering Plugi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ugin is given an object being rendered, and the context which the plugin is ac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ugin makes a decision to render or not render the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Global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s document tree top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which plugin nodes are given the option to r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in what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ok-and-feel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ser Custo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r preferences stored as a diff to global 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ML::DifferenceMar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14:57:13Z</dcterms:created>
  <dc:creator>Allen Day</dc:creator>
  <dc:description/>
  <dc:language>en-US</dc:language>
  <cp:lastModifiedBy>Allen Day</cp:lastModifiedBy>
  <dcterms:modified xsi:type="dcterms:W3CDTF">2003-05-06T01:10:56Z</dcterms:modified>
  <cp:revision>55</cp:revision>
  <dc:subject/>
  <dc:title>GMOD Web Update</dc:title>
</cp:coreProperties>
</file>